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F52-B921-4BC4-A6A4-82338749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003-4C92-45A2-B0E1-77C9F732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49F-BC4A-4134-AB96-9AE145A2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3F1-5586-4992-A388-C812F517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718B-22AE-473E-81A3-AFB140F2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2708-3E9F-4725-8221-1205F4F7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875-0CDF-4609-A8CB-1CA29B9D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108-F99C-4AA1-9F1F-3FAE3D4B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EE9-BA4C-4FEB-961D-B860CB21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55F-2FB8-4E6F-BAFC-F4C3B46C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1AA-B665-4118-9B38-33EE2F93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645-F0D2-4EEA-9F9F-D27309FB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1247-18AA-409B-9236-F9AAE0BA0C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wallpapers[nnm-club.ru]\57702-1366x768.jpg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599640" y="214200"/>
            <a:ext cx="515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9cde5"/>
                </a:solidFill>
                <a:latin typeface="Calibri"/>
              </a:rPr>
              <a:t>Виды односоставных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9cde5"/>
                </a:solidFill>
                <a:latin typeface="Calibri"/>
              </a:rPr>
              <a:t>предлож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372000" y="5857920"/>
            <a:ext cx="22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b9cde5"/>
                </a:solidFill>
                <a:latin typeface="Calibri"/>
              </a:rPr>
              <a:t>Андреева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2660760" y="285840"/>
            <a:ext cx="38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ыводы по проек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42960" y="107172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составные предложения делятся на два вида в зависимости от наличествующего главного члена (либо подлежащее , либо сказуемо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составное предложение с главным членом подлежащим – назывное пред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составные предложения с главным членом сказуемым делятся на четыре ви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1227240" y="3786120"/>
            <a:ext cx="353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ённо-лично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пределённо-лично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бщённо-лично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зличное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F:\wallpapers[nnm-club.ru]\57702-1366x768.jpg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3214800" y="1214280"/>
            <a:ext cx="5357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eb4e3"/>
                </a:solidFill>
                <a:latin typeface="Calibri"/>
              </a:rPr>
              <a:t>Бунеев Р. Н., Бунеева Е.В., Комиссарова Л. Ю., Текучева И. В. Русский язык. Учебник для 8-го класса основной школы. М.: Баллас, 2003. – 304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eb4e3"/>
                </a:solidFill>
                <a:latin typeface="Calibri"/>
              </a:rPr>
              <a:t>Русский язык: Учеб. Для 8 кл. общеобразоват. Учреждений / С. Г. Бархударов, С. Е. Крючков, Л. Ю. Максимов, Л. А. Чешко. – 20-е изд. – М.: Просвещение, 1998. – 191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eb4e3"/>
                </a:solidFill>
                <a:latin typeface="Calibri"/>
              </a:rPr>
              <a:t>Таблица-памят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eb4e3"/>
                </a:solidFill>
                <a:latin typeface="Calibri"/>
              </a:rPr>
              <a:t>Определения, особенности односоставных предложений, примеры, зад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3307680" y="285840"/>
            <a:ext cx="50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Информационные 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3155040" y="428760"/>
            <a:ext cx="30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Предложения</a:t>
            </a: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Прямая со стрелкой 7"/>
          <p:cNvCxnSpPr/>
          <p:nvPr/>
        </p:nvCxnSpPr>
        <p:spPr>
          <a:xfrm flipH="1">
            <a:off x="2856960" y="1071360"/>
            <a:ext cx="857880" cy="9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Прямая со стрелкой 8"/>
          <p:cNvCxnSpPr/>
          <p:nvPr/>
        </p:nvCxnSpPr>
        <p:spPr>
          <a:xfrm>
            <a:off x="5571000" y="1071360"/>
            <a:ext cx="786600" cy="9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TextBox 18"/>
          <p:cNvSpPr/>
          <p:nvPr/>
        </p:nvSpPr>
        <p:spPr>
          <a:xfrm>
            <a:off x="1154520" y="207180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двусостав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9"/>
          <p:cNvSpPr/>
          <p:nvPr/>
        </p:nvSpPr>
        <p:spPr>
          <a:xfrm>
            <a:off x="5724360" y="2071800"/>
            <a:ext cx="25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односостав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ая соединительная линия 21"/>
          <p:cNvSpPr/>
          <p:nvPr/>
        </p:nvSpPr>
        <p:spPr>
          <a:xfrm flipV="1">
            <a:off x="500040" y="3357360"/>
            <a:ext cx="120024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24"/>
          <p:cNvSpPr/>
          <p:nvPr/>
        </p:nvSpPr>
        <p:spPr>
          <a:xfrm flipV="1">
            <a:off x="2428920" y="3357360"/>
            <a:ext cx="120024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25"/>
          <p:cNvSpPr/>
          <p:nvPr/>
        </p:nvSpPr>
        <p:spPr>
          <a:xfrm flipV="1">
            <a:off x="2428920" y="3500280"/>
            <a:ext cx="12002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6"/>
          <p:cNvSpPr/>
          <p:nvPr/>
        </p:nvSpPr>
        <p:spPr>
          <a:xfrm flipV="1">
            <a:off x="5286240" y="3857400"/>
            <a:ext cx="120024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27"/>
          <p:cNvSpPr/>
          <p:nvPr/>
        </p:nvSpPr>
        <p:spPr>
          <a:xfrm flipV="1">
            <a:off x="7572240" y="4286160"/>
            <a:ext cx="12002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8"/>
          <p:cNvSpPr/>
          <p:nvPr/>
        </p:nvSpPr>
        <p:spPr>
          <a:xfrm flipV="1">
            <a:off x="7572240" y="4143240"/>
            <a:ext cx="12002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9"/>
          <p:cNvSpPr/>
          <p:nvPr/>
        </p:nvSpPr>
        <p:spPr>
          <a:xfrm>
            <a:off x="1857240" y="3000240"/>
            <a:ext cx="36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0"/>
          <p:cNvSpPr/>
          <p:nvPr/>
        </p:nvSpPr>
        <p:spPr>
          <a:xfrm>
            <a:off x="4291200" y="371484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1"/>
          <p:cNvSpPr/>
          <p:nvPr/>
        </p:nvSpPr>
        <p:spPr>
          <a:xfrm>
            <a:off x="6572160" y="4000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Прямая со стрелкой 32"/>
          <p:cNvCxnSpPr/>
          <p:nvPr/>
        </p:nvCxnSpPr>
        <p:spPr>
          <a:xfrm>
            <a:off x="7571160" y="2714400"/>
            <a:ext cx="786600" cy="9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Прямая со стрелкой 33"/>
          <p:cNvCxnSpPr/>
          <p:nvPr/>
        </p:nvCxnSpPr>
        <p:spPr>
          <a:xfrm flipH="1">
            <a:off x="5500080" y="2714400"/>
            <a:ext cx="857880" cy="9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571680" y="500040"/>
            <a:ext cx="7929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Односоставное предложение 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это предложение, грамматическая основа которого состоит только из одного главного члена, который равен по форме либо подлежащему, либо сказуем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888120" y="421488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Вечереет. На улице стало прохладно. Тиш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5"/>
          <p:cNvSpPr/>
          <p:nvPr/>
        </p:nvSpPr>
        <p:spPr>
          <a:xfrm>
            <a:off x="857160" y="4857840"/>
            <a:ext cx="1428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6643800" y="4714920"/>
            <a:ext cx="1428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9"/>
          <p:cNvSpPr/>
          <p:nvPr/>
        </p:nvSpPr>
        <p:spPr>
          <a:xfrm>
            <a:off x="3857760" y="4714920"/>
            <a:ext cx="1428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57160" y="4714920"/>
            <a:ext cx="1428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11"/>
          <p:cNvSpPr/>
          <p:nvPr/>
        </p:nvSpPr>
        <p:spPr>
          <a:xfrm>
            <a:off x="5286240" y="4714920"/>
            <a:ext cx="1214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ая соединительная линия 12"/>
          <p:cNvSpPr/>
          <p:nvPr/>
        </p:nvSpPr>
        <p:spPr>
          <a:xfrm>
            <a:off x="3857760" y="4857840"/>
            <a:ext cx="1428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13"/>
          <p:cNvSpPr/>
          <p:nvPr/>
        </p:nvSpPr>
        <p:spPr>
          <a:xfrm>
            <a:off x="5286240" y="4857840"/>
            <a:ext cx="1214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520280" y="357120"/>
            <a:ext cx="64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Виды односоставных предложен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371600" y="1500120"/>
            <a:ext cx="4054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ывные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определённо-личные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неопределённо-личные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обобщённо-личные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безличные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2189160" y="28584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Назывные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928800" y="1071720"/>
            <a:ext cx="742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дин из типов односоставных предложений, форма главного члена в которых имеет сходство в выражении с подлежащ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095480" y="2928960"/>
            <a:ext cx="429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ень. Сказочный чертог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сь открытый для обз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еки лесных дорог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глядевшихся в оз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7"/>
          <p:cNvSpPr/>
          <p:nvPr/>
        </p:nvSpPr>
        <p:spPr>
          <a:xfrm>
            <a:off x="1071720" y="3429000"/>
            <a:ext cx="1285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ая соединительная линия 9"/>
          <p:cNvSpPr/>
          <p:nvPr/>
        </p:nvSpPr>
        <p:spPr>
          <a:xfrm>
            <a:off x="3857760" y="3429000"/>
            <a:ext cx="128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10"/>
          <p:cNvSpPr/>
          <p:nvPr/>
        </p:nvSpPr>
        <p:spPr>
          <a:xfrm>
            <a:off x="1143000" y="4286160"/>
            <a:ext cx="1285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857268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1239480" y="285840"/>
            <a:ext cx="65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Определённо-личные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642960" y="10717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 из типов личных односоставных предложений, форма главного члена в котором выражена глаголом в форме 1 или 2 лица единственного или множественного числа изъявительного или повелительного наклон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808200" y="3500280"/>
            <a:ext cx="510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гляди же с тоской на дорог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за тройкой во след не спеш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6"/>
          <p:cNvSpPr/>
          <p:nvPr/>
        </p:nvSpPr>
        <p:spPr>
          <a:xfrm>
            <a:off x="4143240" y="4786200"/>
            <a:ext cx="1428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8"/>
          <p:cNvSpPr/>
          <p:nvPr/>
        </p:nvSpPr>
        <p:spPr>
          <a:xfrm>
            <a:off x="4143240" y="4929120"/>
            <a:ext cx="1428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>
            <a:off x="857160" y="4071960"/>
            <a:ext cx="1428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10"/>
          <p:cNvSpPr/>
          <p:nvPr/>
        </p:nvSpPr>
        <p:spPr>
          <a:xfrm>
            <a:off x="857160" y="3929040"/>
            <a:ext cx="1428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Управляющая кнопка: назад 12"/>
          <p:cNvSpPr/>
          <p:nvPr/>
        </p:nvSpPr>
        <p:spPr>
          <a:xfrm>
            <a:off x="864396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1136880" y="285840"/>
            <a:ext cx="69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Неопределённо-личные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28760" y="1143000"/>
            <a:ext cx="82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типов личных односоставных предложений, форма главного члена в котором выражена глаголом в форме 3 лица множественного числа настоящего и будущего времени в изъявительном и повелительном наклонении и множественного числа прошедшего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78160" y="3357720"/>
            <a:ext cx="491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ачала все к нему езжал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так как с заднего крыль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ыкновенно подав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му донского жеребц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шь только вдоль большой доро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слышат их домашни дроги,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упком оскорбясь таки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дружбу прекратили с 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9"/>
          <p:cNvSpPr/>
          <p:nvPr/>
        </p:nvSpPr>
        <p:spPr>
          <a:xfrm>
            <a:off x="714240" y="5643720"/>
            <a:ext cx="128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0"/>
          <p:cNvSpPr/>
          <p:nvPr/>
        </p:nvSpPr>
        <p:spPr>
          <a:xfrm>
            <a:off x="714240" y="5572080"/>
            <a:ext cx="1285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Управляющая кнопка: назад 8"/>
          <p:cNvSpPr/>
          <p:nvPr/>
        </p:nvSpPr>
        <p:spPr>
          <a:xfrm>
            <a:off x="864396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453680" y="285840"/>
            <a:ext cx="62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Обобщённо-личные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28760" y="107172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 из типов личных односоставных предложений, форма главного члена в котором выражена глаголом в форме 1 или 2 лица изъявительного или повелительного наклонений или 3 лица множественного числа изъявительного накло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520200" y="4143240"/>
            <a:ext cx="52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пешишь – людей насмешиш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7"/>
          <p:cNvSpPr/>
          <p:nvPr/>
        </p:nvSpPr>
        <p:spPr>
          <a:xfrm>
            <a:off x="3786120" y="4643280"/>
            <a:ext cx="1857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9"/>
          <p:cNvSpPr/>
          <p:nvPr/>
        </p:nvSpPr>
        <p:spPr>
          <a:xfrm>
            <a:off x="3786120" y="4714920"/>
            <a:ext cx="1857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0"/>
          <p:cNvSpPr/>
          <p:nvPr/>
        </p:nvSpPr>
        <p:spPr>
          <a:xfrm>
            <a:off x="571680" y="4643280"/>
            <a:ext cx="1785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11"/>
          <p:cNvSpPr/>
          <p:nvPr/>
        </p:nvSpPr>
        <p:spPr>
          <a:xfrm>
            <a:off x="571680" y="4714920"/>
            <a:ext cx="1785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назад 13"/>
          <p:cNvSpPr/>
          <p:nvPr/>
        </p:nvSpPr>
        <p:spPr>
          <a:xfrm>
            <a:off x="857268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:\wallpapers[nnm-club.ru]\45814-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105280" y="428760"/>
            <a:ext cx="46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Безличные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214200" y="114300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один из типов односоставных предложений, в которых нет и не может быть подлежащего. Сказуемое в них может быть выражено: Безличным глаголом, личным глаголом в значении безличного, кратким страдательным причастием в форме среднего рода, словом категории состояния, инфинитивом, безличным вспомогательным глаголом с инфинитивом, отрицательным словом нет, нету в сочетании с родительным падежом существительного или местоимения, безличной формой глаголов быть, стать, показаться с отрицанием, существительным в родительном падеже с отрицанием 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85840" y="53578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окном начинало темнеть, и принцу ужасно хотелось сбежать с этого б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6357960" y="571500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6357960" y="578628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ая соединительная линия 9"/>
          <p:cNvSpPr/>
          <p:nvPr/>
        </p:nvSpPr>
        <p:spPr>
          <a:xfrm>
            <a:off x="1643040" y="5786280"/>
            <a:ext cx="2357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1643040" y="5715000"/>
            <a:ext cx="2357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Управляющая кнопка: назад 11"/>
          <p:cNvSpPr/>
          <p:nvPr/>
        </p:nvSpPr>
        <p:spPr>
          <a:xfrm>
            <a:off x="864396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7:15:07Z</dcterms:created>
  <dc:creator>Владелец</dc:creator>
  <dc:description/>
  <dc:language>en-US</dc:language>
  <cp:lastModifiedBy>мои друзья</cp:lastModifiedBy>
  <dcterms:modified xsi:type="dcterms:W3CDTF">2011-05-13T10:48:25Z</dcterms:modified>
  <cp:revision>28</cp:revision>
  <dc:subject/>
  <dc:title>Слайд 1</dc:title>
</cp:coreProperties>
</file>